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8247-209B-4814-909A-77A0BB022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FDC6-3698-46A4-97E0-9D4F9F6B4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D7EB-9E7D-4F10-A7BE-8207FFDA9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B489-3FBA-4E61-8048-E89B5E568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BD7F-C963-4D26-9B33-CE943BDE1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A7CB-1111-4A78-9C14-2CE6B7C2A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5498-5833-4319-8328-5C870E291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15C2-185E-4662-AC3F-67E0814DC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851F-1B19-46B1-BB1C-D851A1DEF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A19B-F246-4557-B042-E266A203A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0034-F2BA-4056-B5AF-628BE6283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C7F4-D6F7-4107-982F-4C4E496B5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88541-6EC1-49C8-BE8F-B7259B8A49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1133640" y="237960"/>
            <a:ext cx="8016840" cy="38894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Documents and Settings\Admin\Рабочий стол\ИКТО\IMGP0237l.jpg"/>
          <p:cNvPicPr/>
          <p:nvPr/>
        </p:nvPicPr>
        <p:blipFill>
          <a:blip r:embed="rId2"/>
          <a:stretch/>
        </p:blipFill>
        <p:spPr>
          <a:xfrm>
            <a:off x="1878120" y="3432240"/>
            <a:ext cx="583380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285840" y="357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араболу мы наблюдаем в реальной жизни, как траекторию движения какого-либо тела. Баскетболист бросает мяч и он летит в корзину почти по параболе. Струя фонтана «рисует» линию, которая близка к парабол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3" descr="C:\Documents and Settings\Admin\Рабочий стол\ИКТО\ИКТО12\Рисунок1.jpg"/>
          <p:cNvPicPr/>
          <p:nvPr/>
        </p:nvPicPr>
        <p:blipFill>
          <a:blip r:embed="rId1"/>
          <a:stretch/>
        </p:blipFill>
        <p:spPr>
          <a:xfrm>
            <a:off x="1523880" y="3365640"/>
            <a:ext cx="553572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Documents and Settings\Admin\Рабочий стол\ИКТО\0_28c7_466da2b7_XL.jpg"/>
          <p:cNvPicPr/>
          <p:nvPr/>
        </p:nvPicPr>
        <p:blipFill>
          <a:blip r:embed="rId1"/>
          <a:stretch/>
        </p:blipFill>
        <p:spPr>
          <a:xfrm>
            <a:off x="890640" y="2614680"/>
            <a:ext cx="5351400" cy="4365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Documents and Settings\Admin\Рабочий стол\ИКТО\ZGHU2RCAM5Q2USCAEDUGVQCAZKYOKVCA8YIDFECAWKJ6QNCASTYPM2CAX4OHFMCA5O0BXPCAYRAJB8CATVYHM3CALCW7ZXCAEOOW13CA489PT5CAECJP1XCAVBS3MDCA2RLHTTCAO50AY7CAN8GA8XCA6III6Y.jpg"/>
          <p:cNvPicPr/>
          <p:nvPr/>
        </p:nvPicPr>
        <p:blipFill>
          <a:blip r:embed="rId2"/>
          <a:stretch/>
        </p:blipFill>
        <p:spPr>
          <a:xfrm>
            <a:off x="5389560" y="590400"/>
            <a:ext cx="3687840" cy="3103560"/>
          </a:xfrm>
          <a:prstGeom prst="rect">
            <a:avLst/>
          </a:prstGeom>
          <a:ln w="0">
            <a:noFill/>
          </a:ln>
        </p:spPr>
      </p:pic>
      <p:pic>
        <p:nvPicPr>
          <p:cNvPr id="47" name="Прямоугольник 7" descr=""/>
          <p:cNvPicPr/>
          <p:nvPr/>
        </p:nvPicPr>
        <p:blipFill>
          <a:blip r:embed="rId3"/>
          <a:stretch/>
        </p:blipFill>
        <p:spPr>
          <a:xfrm>
            <a:off x="-6480" y="146160"/>
            <a:ext cx="6772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1T17:55:30Z</dcterms:created>
  <dc:creator>Игорь</dc:creator>
  <dc:description/>
  <dc:language>en-US</dc:language>
  <cp:lastModifiedBy>TIGROID</cp:lastModifiedBy>
  <dcterms:modified xsi:type="dcterms:W3CDTF">2010-06-03T12:36:40Z</dcterms:modified>
  <cp:revision>5</cp:revision>
  <dc:subject/>
  <dc:title>Слайд 1</dc:title>
</cp:coreProperties>
</file>